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7BA-E605-4D29-8161-4BF34735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E63-171E-4434-9FF9-4EBB5F4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439-AF4C-4BD4-99E5-8317B9A7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715-A35D-4033-B878-F688CF16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2F9-170B-4230-A13F-2312F40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6DE8-D176-4256-AE06-D7D6EA63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1AAF-B627-441D-B65C-0E7A29B1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E7A7-E4E3-4094-94D5-F4E4D93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0BF-8804-44CF-9C24-F205D43F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935C-8D6D-4F83-8ACF-2F28FB15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E45F-F265-40A4-BCAF-BF159F7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C1A-9EE1-4EF8-9692-C5EB5C7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F409-979A-45D8-9CDC-553A984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799E-6B5F-4568-B6C2-052442B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CD5-A92D-4721-BABA-A07FDD2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7628-29DE-42A6-8E57-0AD332D8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3041-8F8F-4862-970D-6BFF0B28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BCD-1B23-44B1-8E2F-534EB7FD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B87-4A7A-4CE7-B4EE-EA4C45D1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2F0-3545-4E4C-BDE2-D3618FA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EDF-5BD9-4A2E-B6DD-50853F2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42-2482-4BC0-AA3B-38F3BB8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51B-BE51-4314-B6A9-39BA4FA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DBB-7983-492A-BDE9-E864611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D4A6-F650-4D29-8A24-E54739A21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7DC7-CD82-47EB-A046-F81FAD759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388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pair of compounds can be classified as inorganic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8040" y="3276720"/>
            <a:ext cx="31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 nucleic acids and mineral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2. proteins and water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3. water and salt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4. nucleic acids and protein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46:02Z</dcterms:created>
  <dc:creator>WaiverDay</dc:creator>
  <dc:description/>
  <dc:language>en-US</dc:language>
  <cp:lastModifiedBy>PritchaJ</cp:lastModifiedBy>
  <dcterms:modified xsi:type="dcterms:W3CDTF">2011-06-01T13:56:27Z</dcterms:modified>
  <cp:revision>2</cp:revision>
  <dc:subject/>
  <dc:title>Biochemistry Bellringer #5</dc:title>
</cp:coreProperties>
</file>